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image7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3.jpeg" ContentType="image/jpeg"/>
  <Override PartName="/ppt/media/image23.jpeg" ContentType="image/jpeg"/>
  <Override PartName="/ppt/media/image18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F78D-BC8F-4A51-8497-5E064CED6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C9FF-EB0B-4F6B-8318-3BD98DFB6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E894-FEFD-4C29-8A4F-10AF4C32D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D773-CEA6-4738-B925-35F8C5C26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B69BC-2D53-4D05-ADBC-CAD8A4D9A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51402-4F7E-47AE-952E-87FB5DD1E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C1439-A67A-404F-A8C2-581314DCD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EBA03-0541-4163-B97B-C867462D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003AC-C329-4269-81D0-ADAFB2C91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8B84A-AA2C-4FB9-AEA9-6374B9486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0CF72-0ABF-4425-A82B-82865832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EF23-9AA2-4248-8B86-DC97BE088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DA004-7CFB-4D2E-8E65-C2BBE2AD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0F349-73CB-4D78-BEA8-7D079B1B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70E12-1DE5-492B-9E7B-8FDD9AD40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34B6F-4CAC-4051-9D51-0B50E0EB9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4E437-36D0-411A-A04D-B4905BD00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4986-2C4F-49E2-B6B3-CE92A1624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E335-1BE2-40A6-9F38-661C73968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87BB-AD41-448C-B0EE-9410BD276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D5FF-5AE8-4F76-9AD0-C4EBAE15C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11F3-C88B-4220-BC9F-C5F16A1C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BFAA-9E06-471C-A384-9E47E1E0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2F73-65CF-4FE6-8E27-1EE1D3FE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44113-880D-4FA1-9544-A8AFEE04938E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75BCD-21E5-45A9-B708-2EFC3BB5B9E3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washingtonpost.com/wp-dyn/content/article/2008/02/25/AR2008022500970.html" TargetMode="External"/><Relationship Id="rId3" Type="http://schemas.openxmlformats.org/officeDocument/2006/relationships/image" Target="../media/image3.png"/><Relationship Id="rId4" Type="http://schemas.openxmlformats.org/officeDocument/2006/relationships/hyperlink" Target="http://www.kubatana.net/docs/wild/graham_child_elephant_culling_0401.pdf" TargetMode="External"/><Relationship Id="rId5" Type="http://schemas.openxmlformats.org/officeDocument/2006/relationships/image" Target="../media/image3.png"/><Relationship Id="rId6" Type="http://schemas.openxmlformats.org/officeDocument/2006/relationships/hyperlink" Target="http://www.southafrica.info/about/sustainable/culling-150807.htm" TargetMode="External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hyperlink" Target="http://images.google.com/imgres?imgurl=http://www.mccullagh.org/db9/10d-17/male-greater-kudu.jpg&amp;imgrefurl=http://www.mccullagh.org/image/10d-17/male-greater-kudu.html&amp;usg=__8eVNC6Rmgbgu_nQVXIcTyAwmCHc=&amp;h=512&amp;w=768&amp;sz=198&amp;hl=en&amp;start=2&amp;um=1&amp;itbs=1&amp;tbnid=Oev0vksAuCE_dM:&amp;tbnh=95&amp;tbnw=142&amp;prev=/images%3Fq%3Dkudu%26um%3D1%26hl%3Den%26safe%3Dactive%26sa%3DN%26rlz%3D1T4ADFA_enUS357US359%26tbs%3Disch:1" TargetMode="External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hyperlink" Target="http://images.google.com/imgres?imgurl=http://cache.virtualtourist.com/1897592-The_Kruger_National_Park_from_Above-Kruger_National_Park.jpg&amp;imgrefurl=http://members.virtualtourist.com/m/82e12/21e7b4/&amp;usg=__ChlvAEniaWUfmKvjhbsc1x7Rwf0=&amp;h=420&amp;w=560&amp;sz=52&amp;hl=en&amp;start=11&amp;um=1&amp;itbs=1&amp;tbnid=QYz-JxA68AFekM:&amp;tbnh=100&amp;tbnw=133&amp;prev=/images%3Fq%3Dkruger%2Bnational%2Bpark%2Bpictures%26um%3D1%26hl%3Den%26safe%3Dactive%26rlz%3D1T4ADFA_enUS357US359%26tbs%3Disch:1" TargetMode="External"/><Relationship Id="rId6" Type="http://schemas.openxmlformats.org/officeDocument/2006/relationships/image" Target="../media/image17.jpeg"/><Relationship Id="rId7" Type="http://schemas.openxmlformats.org/officeDocument/2006/relationships/hyperlink" Target="http://images.google.com/imgres?imgurl=http://cache.virtualtourist.com/4294542-KRUGER_NATIONAL_PARK-Kruger_National_Park.jpg&amp;imgrefurl=http://members.virtualtourist.com/m/110824/21e7b4/&amp;usg=__dLjHFFlosu14hgGqzvVcEByWsA4=&amp;h=350&amp;w=560&amp;sz=52&amp;hl=en&amp;start=12&amp;um=1&amp;itbs=1&amp;tbnid=6ohD_2r0pLdmNM:&amp;tbnh=83&amp;tbnw=133&amp;prev=/images%3Fq%3Dkruger%2Bnational%2Bpark%2Bpictures%26um%3D1%26hl%3Den%26safe%3Dactive%26rlz%3D1T4ADFA_enUS357US359%26tbs%3Disch:1" TargetMode="External"/><Relationship Id="rId8" Type="http://schemas.openxmlformats.org/officeDocument/2006/relationships/image" Target="../media/image18.jpeg"/><Relationship Id="rId9" Type="http://schemas.openxmlformats.org/officeDocument/2006/relationships/hyperlink" Target="http://images.google.com/imgres?imgurl=http://www.kwathabeng.co.za/travel/map/kruger-national-park-map.gif&amp;imgrefurl=http://www.kwathabeng.co.za/travel/kruger-national-park-map.html&amp;usg=__UEHDsWjSEHFWRLWjIplP4Fg0ijY=&amp;h=864&amp;w=350&amp;sz=39&amp;hl=en&amp;start=16&amp;um=1&amp;itbs=1&amp;tbnid=JN6FLpVMBBcxqM:&amp;tbnh=145&amp;tbnw=59&amp;prev=/images%3Fq%3Dkruger%2Bnational%2Bpark%2Bpictures%26um%3D1%26hl%3Den%26safe%3Dactive%26rlz%3D1T4ADFA_enUS357US359%26tbs%3Disch:1" TargetMode="External"/><Relationship Id="rId10" Type="http://schemas.openxmlformats.org/officeDocument/2006/relationships/image" Target="../media/image19.jpeg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ULLING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219320" y="1523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Natasha McLaren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Deanna Coope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28600" y="3013200"/>
            <a:ext cx="8610480" cy="384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How they killed the Elephant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Hunters used the lethal transquillising drug succinylcholine chloride (better known as Scoline)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280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They were herded together then darted with the drug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If they didn’t die fast, they were shot in the head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More than 16,000 elephants cruelly killed in Krugar National Park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5"/>
          <a:stretch/>
        </p:blipFill>
        <p:spPr>
          <a:xfrm>
            <a:off x="1676520" y="3243240"/>
            <a:ext cx="5410080" cy="36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YOUTUBE VIDEO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http://www.youtube.com/watch?v=mtWczF2hRuY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http://www.youtube.com/watch?v=GiQs0U_TkBM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Resource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0b854"/>
                </a:solidFill>
                <a:uFillTx/>
                <a:latin typeface="Arial"/>
                <a:hlinkClick r:id="rId2"/>
              </a:rPr>
              <a:t>http://www.washingtonpost.com/wp-dyn/content/article/2008/02/25/AR2008022500970.htm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0b854"/>
                </a:solidFill>
                <a:uFillTx/>
                <a:latin typeface="Arial"/>
                <a:hlinkClick r:id="rId4"/>
              </a:rPr>
              <a:t>http://www.kubatana.net/docs/wild/graham_child_elephant_culling_0401.pdf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0b854"/>
                </a:solidFill>
                <a:uFillTx/>
                <a:latin typeface="Arial"/>
                <a:hlinkClick r:id="rId6"/>
              </a:rPr>
              <a:t>http://www.southafrica.info/about/sustainable/culling-150807.htm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http://www.ifaw.org/ifaw_southern_africa/join_campaigns/national_regional_efforts/the_debate_on_elephant_culling_in_south_africa/shortcut_of_elephant_culling%238217;s_cruel_and_gory_past.php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http://www.youtube.com/v/GiQs0U_TkBM&amp;hl=en_US&amp;fs=1&amp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What Is Culling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Culling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is the process of removing animals from a group based on specific criteria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ypically this is done because the animal is causing ecosystem damage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2209680" y="4114800"/>
            <a:ext cx="441972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How They Damage the Environment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No species, other than man, can modify habitats as rapidly and extensively as elephant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oo many elephants causes loss of trees, grasses, sensitive grazing speci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Replaced by thickets, impala  and kudu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ome of the damages caused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soil capping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reduced infiltration of water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increased run off of rainwater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leads to accelerated soil erosion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9"/>
          <a:stretch/>
        </p:blipFill>
        <p:spPr>
          <a:xfrm>
            <a:off x="5715000" y="4116240"/>
            <a:ext cx="3429000" cy="27417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55520" y="46080"/>
            <a:ext cx="1825560" cy="14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History of Elephant Culling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lephants were killed due to damage of the ecosystem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his caused the elephants to become endangered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Now the elephants are preserved in park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he elephants are thriving in these parks and causing damage to the ecosystem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Now people are starting to cull in these park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f1311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s mostly takes place in Krugar National Park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6"/>
          <a:stretch/>
        </p:blipFill>
        <p:spPr>
          <a:xfrm>
            <a:off x="7086600" y="2089080"/>
            <a:ext cx="2057400" cy="165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South African Elephant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3160" y="1598400"/>
            <a:ext cx="6838920" cy="40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Sharpshooters in helicopters routinely killed hundreds of elephants at a time as a way to manage destructive herds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Big game hunting had severely depleted southern Africa's elephant population by the early 1900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South Africa announced it will end its 1995 suspension of elephant culling to manage its burgeoning elephant populations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62120" y="4952520"/>
            <a:ext cx="688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Since the 1995 suspension, the elephant population in Kruger National Park has grown from 8,000 to an estimated 12,500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19720" cy="33148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1981080" y="3886200"/>
            <a:ext cx="4876920" cy="26766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Elephants in Zimbabw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Zimbabwe has a population of 100 000 elephant in habitats that can support about half that number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Mismanagement of the elephants is a serious danger that puts humans, elephants and the environment in danger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2209680" y="4629240"/>
            <a:ext cx="403884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55680" y="227160"/>
            <a:ext cx="723096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ulling Protest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A Price On The Head Of Every Elephant In Kruger National Park?”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Many see culling in South Africa as a flaw in logic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ulling is completely unnecessary and illogical given the number of alternatives available”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ulling is seen as a short-term fix, not a long-term solution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58000" y="0"/>
            <a:ext cx="2286000" cy="17193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505320" y="5029200"/>
            <a:ext cx="3047760" cy="18288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62120" y="0"/>
            <a:ext cx="1292040" cy="163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200400" cy="36860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3581280" y="1905120"/>
            <a:ext cx="5334120" cy="4066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4:15:34Z</dcterms:created>
  <dc:creator>SASD</dc:creator>
  <dc:description/>
  <dc:language>en-US</dc:language>
  <cp:lastModifiedBy>sasd</cp:lastModifiedBy>
  <dcterms:modified xsi:type="dcterms:W3CDTF">2010-02-23T16:09:45Z</dcterms:modified>
  <cp:revision>11</cp:revision>
  <dc:subject/>
  <dc:title>CULLING</dc:title>
</cp:coreProperties>
</file>